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10D-5734-47B7-A42A-BEE0CB81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56F-EC67-4519-96CC-7A1CC14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CF1-6E42-497E-9BCF-0E9F5FF7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6DA-9CDA-4313-B631-FF4A434A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D092-12A4-4617-A907-5F1457FE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21B3-0D76-41A2-9F23-FCCB75B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A52A-0A0A-4801-9FF6-DCD7ED0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F2F0-2F6D-44C5-880C-B783B286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C46F-D156-42FF-A337-24AEB26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A083-2B3E-46C4-BC7D-5EA21871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BA2-A7A1-4E83-A8A2-715A1492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26B-7F8F-4C60-AA5A-DFC1A927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902F-C801-4395-9405-E1ECBE8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301-47B7-486B-9DB8-A4C763B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A52-37AF-4CC6-978F-CACFA45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6834-8B42-47C8-BCF7-D3A35BEF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0A5-DBC6-4B53-91BA-5DDDA4BE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668-20C2-48D1-9223-9373326F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80E-F289-4604-89A5-0A5590D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3F0-4690-4CDB-A985-6BE2617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A02-F5C1-4156-8F52-4ADFBEF5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08C-223E-425B-A3C2-BD0474D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BA1-58E8-4D28-A2EC-A67C02F3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CF9-F916-46C9-87FF-3519B29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256-78B7-4C36-8868-F14273C0F29C}" type="slidenum"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AEA-3E93-4231-B221-3ACE356D8139}" type="slidenum"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And the second half begins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 details but big guys even more critic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hat’s the goal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st like micro, LET THE GRAPH TELL YOU WHAT NEEDS D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semester; same grap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e the lab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S / AD graph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nt to produce at POT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called FULL EMPLOYMENT, NATURAL RATE OF UNEMPLOYMENT, &amp; L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al output level for coun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resented by vertical li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ng-ru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Graph it!!!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line = GO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ilibrium tells where 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ant to move towards 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so using FISCAL &amp; MONETAR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In a slump like now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pose today is to pre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t major poi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 23 next chap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ocab need memoriz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Econ is ec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hing has chang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al was to underst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ed during DEPRES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ohn Maynard Key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rst time gov’t got involv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2280" y="825480"/>
            <a:ext cx="4041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aves in the ocea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 principles don’t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nomy is like the be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assical view--yeah so wha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nesians--yeah, fix 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How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nomy = GD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DP = CIGX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DP = WIR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different ways/pow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Gov’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Reser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 Gov’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y have lots of job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ULATE THE BUSINESS CYC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en that ways since Depres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different ways to do 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ISCAL POLICY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 Gov’t ability to influence economy by controlling taxes &amp; spe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G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nding = 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xes = 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 Reserv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mmy” ban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part of gov’t but works w/ 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banks control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ETARY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ey supp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happens when you have more money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onetary Policy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 controlling money supply to influence econom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w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MARKET O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RVE RAT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OUNT RA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2:29:26Z</dcterms:created>
  <dc:creator>Lewisburg Area School District</dc:creator>
  <dc:description/>
  <dc:language>en-US</dc:language>
  <cp:lastModifiedBy>Lewisburg Area School District</cp:lastModifiedBy>
  <dcterms:modified xsi:type="dcterms:W3CDTF">2010-01-12T03:31:47Z</dcterms:modified>
  <cp:revision>1</cp:revision>
  <dc:subject/>
  <dc:title>And the second half begins</dc:title>
</cp:coreProperties>
</file>